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A83D-BA78-4B5D-ACDC-16456C652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13FC-A0ED-4A2B-83D5-BD246EF6D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9C1B-E34F-4D57-8E7A-917BBB9A9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E9B6-75CA-4C23-921C-F3E0F972B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63394-6355-4704-8E20-3000B57AC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5D797-69AF-4972-9F6A-959E67DD3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D0757-1306-4B86-B0EC-38BECD655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EF228-8735-40D2-A172-C7302B72F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9D6A8-A891-4371-852C-11EC51427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B3533-28D5-4F5B-9BAA-168A827B8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12B38-DA67-4A6C-B954-2E0BCBCE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135E-98D3-4234-8B90-2012C3807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C57BA-A987-48BA-B837-C9B736AE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0553A-BC6E-419D-8D6A-EDF1F552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B2E74-477C-4F33-91E7-500F0B48F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A53EE-491D-42ED-972A-DE9A2936F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4674A-1604-4EB1-8A27-6E1DC023E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AC2F-903E-4C0D-92C3-1B73EC29A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C5D5-25AA-4402-8873-897E2AF14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BDC2-25DD-40D5-93FE-393ABBA54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F48E-CFA6-4428-9A07-566782BEC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56D2-C975-4A5E-82B6-75388CCF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26EE-3AF4-4C99-8082-6416D170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F3D4-097F-48DA-858A-513084CB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35425-D472-4E5B-85E3-ECE6C00C9E4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E0D1B-46D7-4C1B-B64A-9A74E0BD981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ICo Arithmetic and Logic Uni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바탕"/>
              </a:rPr>
              <a:t>The Need for Spe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바탕"/>
              </a:rPr>
              <a:t>(with minimal area and power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LU Top Level Topology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 primary logic block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hift, Add, Compare, And, Or, OutMux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ass A Direct to Ou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hift Topology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rray of mux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ritical Path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-&gt;Compare-&gt;MUX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4648320" y="1600200"/>
            <a:ext cx="4267080" cy="4495680"/>
          </a:xfrm>
          <a:prstGeom prst="rect">
            <a:avLst/>
          </a:prstGeom>
          <a:ln w="0">
            <a:noFill/>
          </a:ln>
        </p:spPr>
      </p:pic>
    </p:spTree>
  </p:cSld>
  <p:transition advTm="60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etric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tal widt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2775.5 micromet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wer consum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42 milliWat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l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 nanosecon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60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dder Block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irror Adder used as the individual full add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rry-select topolog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ariable block sizes of 6-4-3-2-1 for O(N^0.5) delay growth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457200" y="2259000"/>
            <a:ext cx="4038480" cy="8715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457200" y="4089240"/>
            <a:ext cx="4038480" cy="1892520"/>
          </a:xfrm>
          <a:prstGeom prst="rect">
            <a:avLst/>
          </a:prstGeom>
          <a:ln w="0">
            <a:noFill/>
          </a:ln>
        </p:spPr>
      </p:pic>
    </p:spTree>
  </p:cSld>
  <p:transition advTm="60000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Subtraction 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(The Adder Extended)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tilizes the adder to implement two’s complement subtra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in= 1 and B invert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ith these conditions selected by a mux based on the sub op code the add becomes two’s comple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nimizes Area and power (only one structure)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advTm="60000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rbitrary Function: Comparator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ree Scenario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gnified by three most significant bit outpu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0:13 ground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6bit XOR and 16bit NAND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etermines if A==B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ubtract Utiliz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wo’s complement output of ADD block compares A and B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rawback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rea and extra NAND delay on critical path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4572000" y="1600200"/>
            <a:ext cx="4343400" cy="4495680"/>
          </a:xfrm>
          <a:prstGeom prst="rect">
            <a:avLst/>
          </a:prstGeom>
          <a:ln w="0">
            <a:noFill/>
          </a:ln>
        </p:spPr>
      </p:pic>
    </p:spTree>
  </p:cSld>
  <p:transition advTm="60000">
    <p:push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UX Topolog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3962160" cy="37339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800600" y="1523880"/>
            <a:ext cx="3809880" cy="3733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04920" y="54100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 to 1 MUX Pass Gate Schemat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876920" y="54100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8 to 1 MUX built from 2 to 1 MUX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Optimizat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zed the mirror adder according to logical effort, as shown in the textboo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nimum sized all the other functions as they are not the worst case pat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uffered all the long (&gt;3) transmission gate paths for more spee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advTm="60000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Register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air of muxes with feedback and buffered Q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533520" y="3352680"/>
            <a:ext cx="7924680" cy="2724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8T23:20:26Z</dcterms:created>
  <dc:creator>ITC Labs and Classrooms</dc:creator>
  <dc:description/>
  <dc:language>en-US</dc:language>
  <cp:lastModifiedBy>Andrew Ashworth</cp:lastModifiedBy>
  <dcterms:modified xsi:type="dcterms:W3CDTF">2008-04-29T14:54:22Z</dcterms:modified>
  <cp:revision>4</cp:revision>
  <dc:subject/>
  <dc:title>PICo Arithmetic and Logic Unit</dc:title>
</cp:coreProperties>
</file>